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B4A1-0C24-4F08-8541-1F8BB315A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B126-A522-47CF-9A63-C5BE9070D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2BE5E5-79BF-495B-B20C-02A54A5E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613FBA-9236-422C-AB30-3C302135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9C26-0397-4655-BBED-057992EFA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1564-4FBB-4C36-90BA-E5FDB64D6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1284-9B06-4548-A395-C1605C1C5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D87C-C373-4A77-B1F7-92F81C1BD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0A89-4660-48A5-9B90-A3944C2D2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67374-0EFE-4878-888E-AAC5019FD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4642C-C652-4F6B-A678-3F573D222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D7B29-AA5D-4FD6-9AB5-EB3B46C16E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917CA-F40F-4E49-94BC-76F9C8AA14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70AC-72C7-4B85-B128-B13F4F9A3B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9440-A53C-4FBD-B44B-16E5C8F0A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3FEF-9BA1-4256-9DAD-D8FBFA4CD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2E24B-FD92-4683-82C1-6B2D27CB9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55640-C46B-4183-A199-C4042A122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EC294-02B2-41F3-BB12-84A61F7EFF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FF38A-F5AC-4A38-868C-80D86FCEB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1124A-2EA8-486A-9F2C-3C530DF40D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481A-344F-4FB7-9B35-506A602935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78F0-0822-40BB-8A06-AA0C501ACA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3CAF-8FF9-4A2E-A257-C538C3C66D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B32-173F-48C6-9F30-60A744C4E1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8D1C-50FD-4993-90DA-1564CD4E7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5774-8B48-45C5-85C8-92EFC442F2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C4EE-0182-460D-9E2C-44AEEAC77C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1F52-4768-469E-B8EB-790C707AB8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8835-C1CC-4219-B1DD-B0BF3ADAC6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EF32-D6E4-43DB-B40B-8E0A7CD5E4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2A9-3F69-4219-8C39-A3110CAD43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8A98-80DC-48FD-B2A4-23C6899F58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ACD7-E288-4187-8A1A-5A3E65F389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96EA-7669-4B52-9C24-448EB569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E89D-C877-4CDA-AEE2-EE34592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8940-D35D-4DB5-ADC8-16AC2D4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D9BF-351D-484B-B859-1188442423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3B4D-8AE1-497D-95A6-1EA3BAFF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36D0-E1BB-465C-8D04-763F4C4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4E99-3CAC-4614-B754-D641960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459B-7BC3-4E88-9F8C-BA2573B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9A4C-1428-4C9A-BF42-EA74DF3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F132-122F-43B2-8F9C-D04E900B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0409-9C97-4945-8929-F9A4845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7C76-59FF-433A-991C-26709BC5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333D-54B3-4B60-B572-048717FA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CC8F-AF3C-4D79-9DCE-E55CAD60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0488-0AA8-4311-A157-8007E404EF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E1B4-CA60-4FC4-A0D0-F786451E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1085-7755-49BA-9625-E8E2D8C4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354B-8F5B-4C05-8360-9FBA16F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AEF3-3B45-47A5-A005-855429D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3795-7586-49A3-8E93-0E19C15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7FAC-46F2-41F0-AF18-1665B35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E64B-F44C-49A0-A490-D99D4A5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7B9A-FF60-4FB2-8CFF-B5FDFA6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F66F-C068-4BD7-82B9-8FB7340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94AF-BD09-4CCB-A88C-E9AF2DA0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005F-65A3-431E-B1F8-A8EF09ABA2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8244-5EB0-4443-82E2-BF2F7574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6C05-046B-4468-9E76-779A9A7D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C8FA-74ED-416F-85EC-477D9B8E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D44F-7FBC-4B26-A6EE-980A9E8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5085-E614-4B8E-A925-9919860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3F7A-C914-4DA3-91DA-0520E31E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0F04-4F75-4FF3-874A-A2A27966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86F4-1E35-4A23-8571-5ACAD0E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6212-14DD-4FD3-8257-453FDA0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3BCFA-FD5B-4DE3-BB0C-68C955D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C8CF-AFCC-4488-99E3-F5EE7B6441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7FFC-EB2F-45DC-9A2F-FF81F03B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A311-7510-4909-8BC5-E23C59D7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7D8C-91FA-440B-AA5C-80359A83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BAC7-C353-497F-AA5E-EABF46342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568E-C77B-488E-9E01-455B0290B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DA4-B8D8-4970-BFE9-C3ACAB654AA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F9C5-C2E0-42A2-95E6-C4975A97C36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7081-EB00-460B-A782-A7B72E6A0F4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D67-ABBB-4793-80C4-AE2A886985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F65-C379-4F3F-9390-B74DCE5DF54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C20-9C7E-43BE-BF22-61E9AF2D10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9236160" y="34448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A8D2-25F9-473C-91E6-23E4E9F971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9D9-2070-41E2-BCC0-8E59CF89219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Straight Arrow Connector 75"/>
          <p:cNvCxnSpPr>
            <a:stCxn id="496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Straight Arrow Connector 77"/>
          <p:cNvCxnSpPr>
            <a:stCxn id="497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traight Arrow Connector 79"/>
          <p:cNvCxnSpPr>
            <a:stCxn id="498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9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s information about all instructions that are decoded but not yet retired/com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5A6D-C25D-4DA1-840D-B36036ADB49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8AAB-2D34-4CDC-ADF9-181DA79B407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instruc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ption: stall the operat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ll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: Read the value from the reorder buffer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99E-B67A-4BD2-968E-EB2AC542060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547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5A2-6D5E-4611-A737-AF10ABD85FC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traight Arrow Connector 15"/>
          <p:cNvCxnSpPr>
            <a:stCxn id="600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Straight Arrow Connector 16"/>
          <p:cNvCxnSpPr>
            <a:stCxn id="601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Straight Arrow Connector 17"/>
          <p:cNvCxnSpPr>
            <a:stCxn id="602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0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2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6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7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620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622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39"/>
          <p:cNvCxnSpPr>
            <a:stCxn id="595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4" name="Straight Arrow Connector 41"/>
          <p:cNvCxnSpPr>
            <a:stCxn id="603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0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8C0-8F88-4F64-98E5-0DDB05DA02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D714-7065-46E2-AF44-07E395F5A1F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253F-CC8D-42CC-AC9E-3D112725AB6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B6A-51ED-4AC0-83E2-1E261FD6171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81612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ssler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Alpha 21264 Micro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Micro 1999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cFarling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bining Branch Predi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DEC WRL Technical Report, 199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1880" indent="-343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684-97BD-4458-8EA3-DA4AAC34914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DCC-BF43-4770-A1B7-697EF1B3448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8FE-8064-4489-B53D-067B1665635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656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661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670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675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676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8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9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0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1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3" name="Straight Arrow Connector 42"/>
          <p:cNvCxnSpPr>
            <a:stCxn id="658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5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7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5B4-2B05-4B89-8686-A7DEF5BBBD1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5a: Reorder Buffer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0E6-7392-47CC-A53F-A63A7B605B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75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80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89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94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95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0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42"/>
          <p:cNvCxnSpPr>
            <a:stCxn id="277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3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Issues in Pipelining: 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5E9-127B-442A-BAD5-CD12CA7CB1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324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329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342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347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352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357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363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Programmer Visible (Architectural) St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B0E-DDCC-463E-905B-4D5DE0D1C17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43000" y="1506600"/>
            <a:ext cx="2819520" cy="2971800"/>
          </a:xfrm>
          <a:prstGeom prst="rect">
            <a:avLst/>
          </a:prstGeom>
          <a:solidFill>
            <a:srgbClr val="73c76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143000" y="150660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143000" y="1797120"/>
            <a:ext cx="2819520" cy="2887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143000" y="208584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143000" y="237636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1143000" y="2666880"/>
            <a:ext cx="2819520" cy="28908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1143000" y="4187880"/>
            <a:ext cx="2819520" cy="290520"/>
          </a:xfrm>
          <a:prstGeom prst="rect">
            <a:avLst/>
          </a:prstGeom>
          <a:solidFill>
            <a:srgbClr val="00b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[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76320" y="4419720"/>
            <a:ext cx="4876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array of storag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indexed by a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4800600" y="4419720"/>
            <a:ext cx="3276720" cy="287280"/>
          </a:xfrm>
          <a:prstGeom prst="rect">
            <a:avLst/>
          </a:prstGeom>
          <a:solidFill>
            <a:srgbClr val="ff7e7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memory add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5f5f"/>
                </a:solidFill>
                <a:latin typeface="Calibri"/>
              </a:rPr>
              <a:t>of the current instr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3"/>
          <p:cNvGrpSpPr/>
          <p:nvPr/>
        </p:nvGrpSpPr>
        <p:grpSpPr>
          <a:xfrm>
            <a:off x="5334120" y="1447920"/>
            <a:ext cx="4114800" cy="2578320"/>
            <a:chOff x="5334120" y="1447920"/>
            <a:chExt cx="4114800" cy="2578320"/>
          </a:xfrm>
        </p:grpSpPr>
        <p:sp>
          <p:nvSpPr>
            <p:cNvPr id="386" name="Rectangle 14"/>
            <p:cNvSpPr/>
            <p:nvPr/>
          </p:nvSpPr>
          <p:spPr>
            <a:xfrm>
              <a:off x="5791320" y="160020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5943600" y="19810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6172200" y="1752480"/>
              <a:ext cx="1905120" cy="30492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6400800" y="1447920"/>
              <a:ext cx="1905120" cy="304560"/>
            </a:xfrm>
            <a:prstGeom prst="rect">
              <a:avLst/>
            </a:prstGeom>
            <a:solidFill>
              <a:srgbClr val="35f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5334120" y="2438280"/>
              <a:ext cx="411480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iven special names in the I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(as opposed to address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Calibri"/>
                </a:rPr>
                <a:t>-  general vs. special 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2"/>
          <p:cNvSpPr/>
          <p:nvPr/>
        </p:nvSpPr>
        <p:spPr>
          <a:xfrm>
            <a:off x="1921320" y="564660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structions (and programs) specify how to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values of programmer visibl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an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3CF-1A0E-4695-8EA9-1B059AAFE8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Recall: Checking for and Handling Exceptions in Pipelining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87D6-F7C6-4B5A-9E68-8AE8D041D5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all: Why Do We Want Precise Excep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E9ED-DA13-4B0A-902A-FB6B78D8C3C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33"/>
                </a:solidFill>
                <a:latin typeface="Garamond"/>
              </a:rPr>
              <a:t>Recall: Ensuring Precise Exceptions in Pipelining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77CA-8A57-4A8E-9A8B-038745F1E25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11T13:52:49Z</dcterms:modified>
  <cp:revision>459</cp:revision>
  <dc:subject/>
  <dc:title>18-741  Advanced Computer Architecture Lecture 1: Intro and Basics</dc:title>
</cp:coreProperties>
</file>